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2EAF5-CA66-4153-92BB-60F76560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7B147-A617-4914-B86D-9F507BE8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2844B-D2AF-4132-AD79-222C5379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FF98E-853A-420F-90CD-0BC05E83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B03CB-2C8E-4A73-8BE5-8AA7FA98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6DBFA-37F3-4C3F-9B5A-8CA7FC62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04DBA-E06C-462A-8525-8F72BAE6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1D7B2-4219-42F7-BF87-2EC69CF4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66C99-068D-4009-B13F-73B92FC9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510CA-EC6D-4564-99CD-81DB151F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B04A4-A888-4FA5-AD9E-9BAEF4B5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B1B67-06D5-4C10-B063-207EA483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63FD1-3E1A-4F76-99C2-0C87079934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78027-1730-40C1-AEF0-579A65734E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B9CA5-59C9-4FA7-8377-6AC528C29B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F3865-3CB0-4AD1-ACB5-7422BF80D3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61F78-BD99-4218-87BE-2D65A7868E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6E952-AC51-4D49-9843-0FF93B2F27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47207-8D01-4B2D-925D-FEADD1D6E4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6609D-3BF8-4E6F-B49B-8A4E5A27C8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1C946-D076-455A-97A0-8EA6D5C86F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64C0E-E32A-4B62-AC96-9177AF9D3E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C835F-3820-4C1A-851F-C0175F6B88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23A23-27AF-40BB-BDD6-32B781372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476760"/>
            <a:ext cx="5562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386D-A4EE-48FB-ABE2-B90229010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-</a:t>
            </a:r>
            <a:fld id="{A715A8B2-379D-493C-9CEC-C352389F04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429000" y="243828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oftwa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AW logo"/>
          <p:cNvPicPr/>
          <p:nvPr/>
        </p:nvPicPr>
        <p:blipFill>
          <a:blip r:embed="rId1"/>
          <a:stretch/>
        </p:blipFill>
        <p:spPr>
          <a:xfrm>
            <a:off x="0" y="6064200"/>
            <a:ext cx="1060560" cy="793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181480" y="48369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Lof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Untitled.png"/>
          <p:cNvPicPr/>
          <p:nvPr/>
        </p:nvPicPr>
        <p:blipFill>
          <a:blip r:embed="rId2"/>
          <a:stretch/>
        </p:blipFill>
        <p:spPr>
          <a:xfrm>
            <a:off x="304920" y="182880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laring 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 could be declar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scores = new int[1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e of the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[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 array of integ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array type does not specify its size, but each object of that type has a specific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ference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et to a new array object that can hold 10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5"/>
          <p:cNvSpPr/>
          <p:nvPr/>
        </p:nvSpPr>
        <p:spPr>
          <a:xfrm>
            <a:off x="609480" y="5716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ubberLin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mouse events and rubberband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ubber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application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Rubber Line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ubberLines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5"/>
          <p:cNvSpPr/>
          <p:nvPr/>
        </p:nvSpPr>
        <p:spPr>
          <a:xfrm>
            <a:off x="609480" y="5716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ubberLin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mouse events and rubberband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ubber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application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Rubber Line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ubberLines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7"/>
          <p:cNvGrpSpPr/>
          <p:nvPr/>
        </p:nvGrpSpPr>
        <p:grpSpPr>
          <a:xfrm>
            <a:off x="1828800" y="457200"/>
            <a:ext cx="5562720" cy="3276720"/>
            <a:chOff x="1828800" y="457200"/>
            <a:chExt cx="5562720" cy="3276720"/>
          </a:xfrm>
        </p:grpSpPr>
        <p:sp>
          <p:nvSpPr>
            <p:cNvPr id="543" name="TextBox 5"/>
            <p:cNvSpPr/>
            <p:nvPr/>
          </p:nvSpPr>
          <p:spPr>
            <a:xfrm>
              <a:off x="1828800" y="457200"/>
              <a:ext cx="5562720" cy="327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Picture 6" descr="RubberLines.png"/>
            <p:cNvPicPr/>
            <p:nvPr/>
          </p:nvPicPr>
          <p:blipFill>
            <a:blip r:embed="rId1"/>
            <a:stretch/>
          </p:blipFill>
          <p:spPr>
            <a:xfrm>
              <a:off x="2082600" y="691920"/>
              <a:ext cx="5054760" cy="280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5"/>
          <p:cNvSpPr/>
          <p:nvPr/>
        </p:nvSpPr>
        <p:spPr>
          <a:xfrm>
            <a:off x="609480" y="15228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ubberLines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primary drawing panel for the RubberLines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ubberLines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point1 = null, point2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is panel to listen for mouse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ubberLines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Listener listene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Listen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Mouse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MouseMotion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400, 2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457200" y="181080"/>
            <a:ext cx="838188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the current line from the initial mouse-pressed poin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current position of the mo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Compone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 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yellow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oint1 !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ull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 point2 !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point1.x, point1.y, point2.x, point2.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listener for all mouse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Listener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Listener, MouseMo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aptures the initial position at which the mouse button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es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Pressed (Mouse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1 = event.getPo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5"/>
          <p:cNvSpPr/>
          <p:nvPr/>
        </p:nvSpPr>
        <p:spPr>
          <a:xfrm>
            <a:off x="609480" y="77472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ets the current position of the mouse as it is dragged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draws the line to create the rubberband eff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Dragged (Mouse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2 = event.getPo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a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ovide empty definitions for unused event metho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Click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Releas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Enter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Exit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Mov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y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generated when the user types on the 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ers for key events are created by implement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is passed to the appropriate method when a key event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878040" y="2286000"/>
          <a:ext cx="6868800" cy="1494000"/>
        </p:xfrm>
        <a:graphic>
          <a:graphicData uri="http://schemas.openxmlformats.org/drawingml/2006/table">
            <a:tbl>
              <a:tblPr/>
              <a:tblGrid>
                <a:gridCol w="1917720"/>
                <a:gridCol w="49510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pres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ey on the keyboard is pressed 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rele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ey on the keyboard is rele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ty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ey on the keyboard is pressed down and rele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onent that generates a key event is the one that has the curr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yboard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s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an be used to determine which key was 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example "moves" an image of an arrow as the user types the keyboard arrow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rection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rectionPanel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5"/>
          <p:cNvSpPr/>
          <p:nvPr/>
        </p:nvSpPr>
        <p:spPr>
          <a:xfrm>
            <a:off x="609480" y="5716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irectio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key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application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Directio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5"/>
          <p:cNvSpPr/>
          <p:nvPr/>
        </p:nvSpPr>
        <p:spPr>
          <a:xfrm>
            <a:off x="609480" y="5716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irectio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key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application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Directio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7"/>
          <p:cNvGrpSpPr/>
          <p:nvPr/>
        </p:nvGrpSpPr>
        <p:grpSpPr>
          <a:xfrm>
            <a:off x="2362320" y="457200"/>
            <a:ext cx="4267080" cy="3276720"/>
            <a:chOff x="2362320" y="457200"/>
            <a:chExt cx="4267080" cy="3276720"/>
          </a:xfrm>
        </p:grpSpPr>
        <p:sp>
          <p:nvSpPr>
            <p:cNvPr id="563" name="TextBox 5"/>
            <p:cNvSpPr/>
            <p:nvPr/>
          </p:nvSpPr>
          <p:spPr>
            <a:xfrm>
              <a:off x="2362320" y="457200"/>
              <a:ext cx="4267080" cy="327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Picture 6" descr="Direction.png"/>
            <p:cNvPicPr/>
            <p:nvPr/>
          </p:nvPicPr>
          <p:blipFill>
            <a:blip r:embed="rId1"/>
            <a:stretch/>
          </p:blipFill>
          <p:spPr>
            <a:xfrm>
              <a:off x="2603520" y="704880"/>
              <a:ext cx="3784680" cy="2781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609480" y="76212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irection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primary display panel for the Direction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= 300, HEIGHT = 2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UMP = 10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rement for image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_SIZE = 3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Icon up, down, right, left, currentImag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, 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laring 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ther examples of array decla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weights = new int[200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[] prices = new double[50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[] flag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ags = new boolean[2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[] codes = new char[175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5"/>
          <p:cNvSpPr/>
          <p:nvPr/>
        </p:nvSpPr>
        <p:spPr>
          <a:xfrm>
            <a:off x="457200" y="457200"/>
            <a:ext cx="838188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is panel and loads the im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KeyListener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Listen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WIDTH /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HEIGHT /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Icon ("arrowUp.gif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w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Icon ("arrowDown.gif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Icon ("arrowLeft.gif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Icon ("arrowRight.gif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Image =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WIDTH, HEIGHT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Focusa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457200" y="76320"/>
            <a:ext cx="838188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the image in the current lo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Compone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 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Image.paintIcon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hi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page, x, 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listener for keyboard activ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Listener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sponds to the user pressing arrow keys by adjusting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mage and image location according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Pressed (Key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witch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.getKeyCode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Event.VK_U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Image = u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-= JU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5"/>
          <p:cNvSpPr/>
          <p:nvPr/>
        </p:nvSpPr>
        <p:spPr>
          <a:xfrm>
            <a:off x="609480" y="45720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Event.VK_DOW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Image = 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+= JU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Event.VK_LEF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Image = lef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-= JU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Event.VK_RIGH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Image =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JU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a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ovide empty definitions for unused event metho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Typed (Key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Released (Key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8 has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declaration 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s checking and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s that store object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dimensional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 events and keyboar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-each version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can be used when processing array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score : sc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scor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nly appropriate when processing all array elements starting at index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't be used to set the arra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icArray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609480" y="22860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asicArra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basic array declara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ic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 array, fills it with various integer valu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odifies one value, then prints them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MIT = 15, MULTIPLE =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lis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LIMI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itialize the array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0; index &lt; LIMIT; index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index] = index * MULTIP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5] = 999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nge one array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 the array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: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value + " 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609480" y="22860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asicArra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basic array declara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ic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 array, fills it with various integer valu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odifies one value, then prints them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MIT = 15, MULTIPLE =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lis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LIMI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itialize the array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0; index &lt; LIMIT; index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index] = index * MULTIP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5] = 999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nge one array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 the array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: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value + " 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496440" y="228600"/>
            <a:ext cx="8047440" cy="1036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10  20  30  40  999  60  70  80  90  100  110  120  130  1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Array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8"/>
          <p:cNvGrpSpPr/>
          <p:nvPr/>
        </p:nvGrpSpPr>
        <p:grpSpPr>
          <a:xfrm>
            <a:off x="914400" y="1143000"/>
            <a:ext cx="7162920" cy="5334120"/>
            <a:chOff x="914400" y="1143000"/>
            <a:chExt cx="7162920" cy="5334120"/>
          </a:xfrm>
        </p:grpSpPr>
        <p:sp>
          <p:nvSpPr>
            <p:cNvPr id="203" name="TextBox 5"/>
            <p:cNvSpPr/>
            <p:nvPr/>
          </p:nvSpPr>
          <p:spPr>
            <a:xfrm>
              <a:off x="914400" y="1143000"/>
              <a:ext cx="716292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Picture 7" descr="fig08_02.tif"/>
            <p:cNvPicPr/>
            <p:nvPr/>
          </p:nvPicPr>
          <p:blipFill>
            <a:blip r:embed="rId1"/>
            <a:stretch/>
          </p:blipFill>
          <p:spPr>
            <a:xfrm>
              <a:off x="1371600" y="1346040"/>
              <a:ext cx="6324840" cy="488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304920" y="106668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 array declaration to represent the ages of 100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code that prints each value in an array of integers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304920" y="106668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 array declaration to represent the ages of 100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code that prints each value in an array of integers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1820520" y="22860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ges = new int[10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1726560" y="4495680"/>
            <a:ext cx="5484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value : val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nds Che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n array is created, it has a fixed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dex used in an array reference must specify a valid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the index value must be in range 0 to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interpreter throw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n array index is out of b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called automat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unds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nds Che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the arra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hold 100 values, it can be indexed from 0 to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100, then the following reference will cause an exception to be thr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codes[count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common to introdu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ff-by-one err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using arr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95520" y="518940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index=0; index &lt;= 100; index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des[index] = index*50 + epsil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5"/>
          <p:cNvGrpSpPr/>
          <p:nvPr/>
        </p:nvGrpSpPr>
        <p:grpSpPr>
          <a:xfrm>
            <a:off x="5108760" y="4662360"/>
            <a:ext cx="1255320" cy="976320"/>
            <a:chOff x="5108760" y="4662360"/>
            <a:chExt cx="1255320" cy="976320"/>
          </a:xfrm>
        </p:grpSpPr>
        <p:sp>
          <p:nvSpPr>
            <p:cNvPr id="220" name="Text Box 6"/>
            <p:cNvSpPr/>
            <p:nvPr/>
          </p:nvSpPr>
          <p:spPr>
            <a:xfrm>
              <a:off x="5108760" y="466236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probl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7"/>
            <p:cNvSpPr/>
            <p:nvPr/>
          </p:nvSpPr>
          <p:spPr>
            <a:xfrm>
              <a:off x="5211720" y="5257440"/>
              <a:ext cx="10663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5668920" y="5028840"/>
              <a:ext cx="75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ooter Placeholder 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 are objects that help us organize large amounts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8 focuse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declaration 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s checking and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s that store object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dimensional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 events and keyboar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nds Che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rray object has a public constant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tores the size of the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ferenced using the array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ores.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 the number of elements, not the largest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verseOrder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tterCount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0948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verseOrd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array index process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verse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a list of numbers from the user, storing them in 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rray, then prints them in the opposite or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[] numbers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[1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size of the array: " + numbers.leng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609480" y="1432080"/>
            <a:ext cx="7910640" cy="325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0; index &lt; numbers.length; index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number " + (index+1) + "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s[index] = scan.nextDoub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numbers in reverse order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numbers.length-1; index &gt;= 0; index-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numbers[index] + " 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609480" y="1432080"/>
            <a:ext cx="7910640" cy="325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0; index &lt; numbers.length; index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number " + (index+1) + "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s[index] = scan.nextDoub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numbers in reverse order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numbers.length-1; index &gt;= 0; index-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numbers[index] + " 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97880" y="457200"/>
            <a:ext cx="8291160" cy="3956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ize of the array: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1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8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2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48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3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4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9.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5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72.4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6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34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7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63.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8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45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9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6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10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99.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umbers in reverse ord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9.18  69.0  45.55  63.41  34.8  72.404  29.06  53.5  48.9  18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609480" y="30636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etterCoun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relationship between arrays and str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tter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a sentence from the user and counts the numb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uppercase and lowercase letters contained in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CHARS = 2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uppe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NUMCHARS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lowe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NUMCHARS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ha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current character being proc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 = 0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nter for non-alphabe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609480" y="96372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Enter a sentence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lin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unt the number of each letter occu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h = 0; ch &lt; line.length(); ch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 = line.charAt(c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urrent &gt;= 'A' &amp;&amp; current &lt;= 'Z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[current-'A']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urrent &gt;= 'a' &amp;&amp; current &lt;= 'z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[current-'a']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609480" y="122868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 the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tter=0; letter &lt; upper.length; letter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(letter + 'A'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: " + upper[letter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\t\t" +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(letter + 'a'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: " + lower[letter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n-alphabetic characters: " + oth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609480" y="122868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 the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tter=0; letter &lt; upper.length; letter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(letter + 'A'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: " + upper[letter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\t\t" +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(letter + 'a'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: " + lower[letter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n-alphabetic characters: " + oth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502920" y="304920"/>
            <a:ext cx="8047440" cy="6146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In Casablanca, Humphrey Bogart never says "Play it again, Sam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: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: 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: 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: 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: 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: 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4064040" y="2819520"/>
            <a:ext cx="3902040" cy="3469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: 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Z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z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on-alphabetic characters: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e Array Synt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ackets of the array type can be associated with the element type or with the name of the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the following two declarations are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[] pri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prices[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format generally is more readable and should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iz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itializer 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used to instantiate and fill an array in one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s are delimited by braces and separated by com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951840" y="396252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units = {147, 323, 89, 933, 54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69, 97, 114, 298, 476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08480" y="5181480"/>
            <a:ext cx="78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[] grades = {'A', 'B', 'C', 'D', ’F'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378520" y="1720800"/>
            <a:ext cx="483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523880" y="17985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iz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when an initializer list i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 is not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ze value is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ze of the array is determined by the number of items in th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itializer list can be used only in the array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Prime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60948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m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initializer list for an arr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ores some prime numbers in an array and prints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primeNums = {2, 3, 5, 7, 11, 13, 17, 19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rray length: " + primeNums.leng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first few prime numbers are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e : primeNu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prime + " 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60948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m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initializer list for an arr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ores some prime numbers in an array and prints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primeNums = {2, 3, 5, 7, 11, 13, 17, 19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rray length: " + primeNums.leng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first few prime numbers are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e : primeNu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prime + " 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2340360" y="519120"/>
            <a:ext cx="4267800" cy="152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length: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first few prime numbers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  3  5  7  11  13  17 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 as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tire array can be passed as a parameter to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ny other object, the reference to the array is passed, making the formal and actual parameters aliases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changing an array element within the method changes the 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dividual array element can be passed to a method as well, in which case the type of the formal parameter is the same as the elemen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2378520" y="1720800"/>
            <a:ext cx="483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1523880" y="23623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ments of an array can be object 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declaration reserves space to store 5 referenc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NOT creat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an array of objects hold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bject stored in an array must be instantiated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 when initially decla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oint, the following line of code would throw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llPointerExce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words[0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30"/>
          <p:cNvGrpSpPr/>
          <p:nvPr/>
        </p:nvGrpSpPr>
        <p:grpSpPr>
          <a:xfrm>
            <a:off x="2639880" y="2057400"/>
            <a:ext cx="2617920" cy="1905120"/>
            <a:chOff x="2639880" y="2057400"/>
            <a:chExt cx="2617920" cy="1905120"/>
          </a:xfrm>
        </p:grpSpPr>
        <p:sp>
          <p:nvSpPr>
            <p:cNvPr id="273" name="Rectangle 4"/>
            <p:cNvSpPr/>
            <p:nvPr/>
          </p:nvSpPr>
          <p:spPr>
            <a:xfrm>
              <a:off x="3533760" y="2057400"/>
              <a:ext cx="577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5"/>
            <p:cNvSpPr/>
            <p:nvPr/>
          </p:nvSpPr>
          <p:spPr>
            <a:xfrm>
              <a:off x="2639880" y="20718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3807000" y="22478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"/>
            <p:cNvSpPr/>
            <p:nvPr/>
          </p:nvSpPr>
          <p:spPr>
            <a:xfrm>
              <a:off x="4572000" y="20574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1"/>
            <p:cNvSpPr/>
            <p:nvPr/>
          </p:nvSpPr>
          <p:spPr>
            <a:xfrm>
              <a:off x="4572000" y="24382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2"/>
            <p:cNvSpPr/>
            <p:nvPr/>
          </p:nvSpPr>
          <p:spPr>
            <a:xfrm>
              <a:off x="4572000" y="28195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4572000" y="32004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4"/>
            <p:cNvSpPr/>
            <p:nvPr/>
          </p:nvSpPr>
          <p:spPr>
            <a:xfrm>
              <a:off x="4572000" y="35812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om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are created and stored in the arr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36"/>
          <p:cNvGrpSpPr/>
          <p:nvPr/>
        </p:nvGrpSpPr>
        <p:grpSpPr>
          <a:xfrm>
            <a:off x="1754280" y="2590920"/>
            <a:ext cx="5331960" cy="1904760"/>
            <a:chOff x="1754280" y="2590920"/>
            <a:chExt cx="5331960" cy="1904760"/>
          </a:xfrm>
        </p:grpSpPr>
        <p:grpSp>
          <p:nvGrpSpPr>
            <p:cNvPr id="285" name="Group 20"/>
            <p:cNvGrpSpPr/>
            <p:nvPr/>
          </p:nvGrpSpPr>
          <p:grpSpPr>
            <a:xfrm>
              <a:off x="5105520" y="2590920"/>
              <a:ext cx="1980720" cy="368280"/>
              <a:chOff x="5105520" y="2590920"/>
              <a:chExt cx="1980720" cy="368280"/>
            </a:xfrm>
          </p:grpSpPr>
          <p:sp>
            <p:nvSpPr>
              <p:cNvPr id="286" name="AutoShape 4"/>
              <p:cNvSpPr/>
              <p:nvPr/>
            </p:nvSpPr>
            <p:spPr>
              <a:xfrm>
                <a:off x="5105520" y="2629080"/>
                <a:ext cx="190476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5"/>
              <p:cNvSpPr/>
              <p:nvPr/>
            </p:nvSpPr>
            <p:spPr>
              <a:xfrm>
                <a:off x="5146560" y="2590920"/>
                <a:ext cx="193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"friendship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Rectangle 6"/>
            <p:cNvSpPr/>
            <p:nvPr/>
          </p:nvSpPr>
          <p:spPr>
            <a:xfrm>
              <a:off x="2647800" y="2590920"/>
              <a:ext cx="57816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1754280" y="26049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8"/>
            <p:cNvSpPr/>
            <p:nvPr/>
          </p:nvSpPr>
          <p:spPr>
            <a:xfrm>
              <a:off x="2921040" y="27813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3686040" y="25909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0"/>
            <p:cNvSpPr/>
            <p:nvPr/>
          </p:nvSpPr>
          <p:spPr>
            <a:xfrm>
              <a:off x="3686040" y="29718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1"/>
            <p:cNvSpPr/>
            <p:nvPr/>
          </p:nvSpPr>
          <p:spPr>
            <a:xfrm>
              <a:off x="3686040" y="33526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"/>
            <p:cNvSpPr/>
            <p:nvPr/>
          </p:nvSpPr>
          <p:spPr>
            <a:xfrm>
              <a:off x="3686040" y="37339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3"/>
            <p:cNvSpPr/>
            <p:nvPr/>
          </p:nvSpPr>
          <p:spPr>
            <a:xfrm>
              <a:off x="3686040" y="41148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3990960" y="2779560"/>
              <a:ext cx="10414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21"/>
            <p:cNvGrpSpPr/>
            <p:nvPr/>
          </p:nvGrpSpPr>
          <p:grpSpPr>
            <a:xfrm>
              <a:off x="5105520" y="2978280"/>
              <a:ext cx="1600200" cy="368280"/>
              <a:chOff x="5105520" y="2978280"/>
              <a:chExt cx="1600200" cy="368280"/>
            </a:xfrm>
          </p:grpSpPr>
          <p:sp>
            <p:nvSpPr>
              <p:cNvPr id="298" name="AutoShape 18"/>
              <p:cNvSpPr/>
              <p:nvPr/>
            </p:nvSpPr>
            <p:spPr>
              <a:xfrm>
                <a:off x="5105520" y="3009960"/>
                <a:ext cx="16002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16"/>
              <p:cNvSpPr/>
              <p:nvPr/>
            </p:nvSpPr>
            <p:spPr>
              <a:xfrm>
                <a:off x="5157720" y="2978280"/>
                <a:ext cx="149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"loyalty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Line 17"/>
            <p:cNvSpPr/>
            <p:nvPr/>
          </p:nvSpPr>
          <p:spPr>
            <a:xfrm>
              <a:off x="3997440" y="3160800"/>
              <a:ext cx="1041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5"/>
            <p:cNvSpPr/>
            <p:nvPr/>
          </p:nvSpPr>
          <p:spPr>
            <a:xfrm>
              <a:off x="3997440" y="3541680"/>
              <a:ext cx="1041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34"/>
            <p:cNvSpPr/>
            <p:nvPr/>
          </p:nvSpPr>
          <p:spPr>
            <a:xfrm>
              <a:off x="5105520" y="3390840"/>
              <a:ext cx="1325520" cy="30492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35"/>
            <p:cNvSpPr/>
            <p:nvPr/>
          </p:nvSpPr>
          <p:spPr>
            <a:xfrm>
              <a:off x="5029200" y="3359160"/>
              <a:ext cx="14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"honor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Footer Placeholder 2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in mind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can be created using lit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declaration creates an array object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er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ills it with fou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created using string lit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00280" y="412272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[] verbs = {"play", "work", "eat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sleep", "run"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example creates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, each with a string representation and a numeric lower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 grades include plus and minus designations, so must be stored as strings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deRange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de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, introduced in Chapter 5, is used to organize a list of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class in the Java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ra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rogramming language construct used to organize a list of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special syntax to access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ts name implies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uses an array internally to manage the list of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609480" y="38088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radeRang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rray of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 array of Grade objects and prints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[] grades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A", 95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A-", 9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B+", 87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B", 85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B-", 8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C+", 77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C", 75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C-", 7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D+", 67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D", 65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D-", 6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F",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Grade letterGrade : gra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letterGrad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609480" y="38088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radeRang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rray of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 array of Grade objects and prints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[] grades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A", 95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A-", 9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B+", 87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B", 85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B-", 8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C+", 77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C", 75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C-", 7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D+", 67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D", 65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D-", 6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F",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Grade letterGrade : gra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letterGrad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3650040" y="284040"/>
            <a:ext cx="1524600" cy="371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+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+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+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609480" y="76320"/>
            <a:ext cx="791064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rad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school gra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Bou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is Grade object with the 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rade name and numeric lower bou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 (String grade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tof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grad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Bound = cutof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a string representation of this gra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+ "\t" + lowerBou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609480" y="91440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Name mut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Name (String gra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grad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ower bound mut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LowerBoun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tof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Bound = cutof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"/>
          <p:cNvSpPr/>
          <p:nvPr/>
        </p:nvSpPr>
        <p:spPr>
          <a:xfrm>
            <a:off x="609480" y="102708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Name access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getNam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ower bound access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LowerBound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Bou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's look at an example that manages a collect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V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itial capacity of 100 is created for th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room is needed, a private method is used to create a larger array and transfer the current DV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Movie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DVDCollection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DVD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46080" y="76320"/>
            <a:ext cx="906768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ovi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rray of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 DVDCollection object and adds some DVDs to it. Pr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orts on the status of the coll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Collection movies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Coll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The Godfather", "Francis Ford Coppala", 1972, 24.95, 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District 9", "Neill Blomkamp", 2009, 19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Iron Man", "Jon Favreau", 2008, 15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All About Eve", "Joseph Mankiewicz", 1950, 17.50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The Matrix", "Andy &amp; Lana Wachowski", 1999, 19.95, 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ovi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Iron Man 2", "Jon Favreau", 2010, 22.99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Casablanca", "Michael Curtiz", 1942, 19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ovi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46080" y="76320"/>
            <a:ext cx="906768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ovi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rray of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 DVDCollection object and adds some DVDs to it. Pr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orts on the status of the coll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Collection movies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Coll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The Godfather", "Francis Ford Coppala", 1972, 24.95, 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District 9", "Neill Blomkamp", 2009, 19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Iron Man", "Jon Favreau", 2008, 15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All About Eve", "Joseph Mankiewicz", 1950, 17.50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The Matrix", "Andy &amp; Lana Wachowski", 1999, 19.95, 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ovi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Iron Man 2", "Jon Favreau", 2010, 22.99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Casablanca", "Michael Curtiz", 1942, 19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ovi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609480" y="228600"/>
            <a:ext cx="7772400" cy="468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~~~~~~~~~~~~~~~~~~~~~~~~~~~~~~~~~~~~~~~~~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y DVD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DVDs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cost: $98.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cost: $19.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VD Li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24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7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Godfath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ancis Ford Coppal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lu-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9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0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trict 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ill Blomk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5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0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on Ma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n Fav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7.5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5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About Ev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seph Mankiewi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9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9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dy &amp; Lana Wachowsk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lu-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"/>
          <p:cNvSpPr/>
          <p:nvPr/>
        </p:nvSpPr>
        <p:spPr>
          <a:xfrm>
            <a:off x="46080" y="76320"/>
            <a:ext cx="906768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ovi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rray of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 DVDCollection object and adds some DVDs to it. Pr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orts on the status of the coll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Collection movies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Coll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The Godfather", "Francis Ford Coppala", 1972, 24.95, 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District 9", "Neill Blomkamp", 2009, 19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Iron Man", "Jon Favreau", 2008, 15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All About Eve", "Joseph Mankiewicz", 1950, 17.50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The Matrix", "Andy &amp; Lana Wachowski", 1999, 19.95, 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ovi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Iron Man 2", "Jon Favreau", 2010, 22.99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Casablanca", "Michael Curtiz", 1942, 19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ovi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609480" y="228600"/>
            <a:ext cx="7772400" cy="468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~~~~~~~~~~~~~~~~~~~~~~~~~~~~~~~~~~~~~~~~~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y DVD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DVDs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cost: $98.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cost: $19.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VD Li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24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7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Godfath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ancis Ford Coppal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lu-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9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0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trict 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ill Blomk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5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0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on Ma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n Fav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7.5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5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About Ev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seph Mankiewi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9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9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dy &amp; Lana Wachowsk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lu-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1219320" y="1203480"/>
            <a:ext cx="7772400" cy="468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~~~~~~~~~~~~~~~~~~~~~~~~~~~~~~~~~~~~~~~~~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y DVD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DVDs: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cost: $141.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cost: $20.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VD Li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24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7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Godfath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ancis Ford Coppal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lu-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9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0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trict 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ill Blomk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5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0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on Ma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n Fav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7.5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5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About Ev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seph Mankiewi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9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9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dy &amp; Lana Wachowsk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lu-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22.9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on Man 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n Fav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9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4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sablanc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chael Curt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5"/>
          <p:cNvSpPr/>
          <p:nvPr/>
        </p:nvSpPr>
        <p:spPr>
          <a:xfrm>
            <a:off x="609480" y="3808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VDCollectio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collection of DVD mov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Number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[] collec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Co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Creates an initially empty coll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Collection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ectio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Cost =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ray is an ordered list of val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783880" y="2951280"/>
            <a:ext cx="513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1     2     3     4     5     6     7     8 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3"/>
          <p:cNvGrpSpPr/>
          <p:nvPr/>
        </p:nvGrpSpPr>
        <p:grpSpPr>
          <a:xfrm>
            <a:off x="2638440" y="3408480"/>
            <a:ext cx="5379840" cy="714240"/>
            <a:chOff x="2638440" y="3408480"/>
            <a:chExt cx="5379840" cy="714240"/>
          </a:xfrm>
        </p:grpSpPr>
        <p:grpSp>
          <p:nvGrpSpPr>
            <p:cNvPr id="139" name="Group 6"/>
            <p:cNvGrpSpPr/>
            <p:nvPr/>
          </p:nvGrpSpPr>
          <p:grpSpPr>
            <a:xfrm>
              <a:off x="2638440" y="3408480"/>
              <a:ext cx="5379840" cy="714240"/>
              <a:chOff x="2638440" y="3408480"/>
              <a:chExt cx="5379840" cy="714240"/>
            </a:xfrm>
          </p:grpSpPr>
          <p:sp>
            <p:nvSpPr>
              <p:cNvPr id="140" name="Rectangle 7"/>
              <p:cNvSpPr/>
              <p:nvPr/>
            </p:nvSpPr>
            <p:spPr>
              <a:xfrm>
                <a:off x="2638440" y="3414600"/>
                <a:ext cx="5379840" cy="701640"/>
              </a:xfrm>
              <a:prstGeom prst="rect">
                <a:avLst/>
              </a:prstGeom>
              <a:solidFill>
                <a:srgbClr val="f5e9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8"/>
              <p:cNvSpPr/>
              <p:nvPr/>
            </p:nvSpPr>
            <p:spPr>
              <a:xfrm>
                <a:off x="3201840" y="3414600"/>
                <a:ext cx="528120" cy="701640"/>
              </a:xfrm>
              <a:prstGeom prst="rect">
                <a:avLst/>
              </a:prstGeom>
              <a:solidFill>
                <a:srgbClr val="f5e9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9"/>
              <p:cNvSpPr/>
              <p:nvPr/>
            </p:nvSpPr>
            <p:spPr>
              <a:xfrm>
                <a:off x="4241520" y="3414600"/>
                <a:ext cx="528120" cy="701640"/>
              </a:xfrm>
              <a:prstGeom prst="rect">
                <a:avLst/>
              </a:prstGeom>
              <a:solidFill>
                <a:srgbClr val="f5e9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0"/>
              <p:cNvSpPr/>
              <p:nvPr/>
            </p:nvSpPr>
            <p:spPr>
              <a:xfrm>
                <a:off x="5324040" y="3414600"/>
                <a:ext cx="528480" cy="701640"/>
              </a:xfrm>
              <a:prstGeom prst="rect">
                <a:avLst/>
              </a:prstGeom>
              <a:solidFill>
                <a:srgbClr val="f5e9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6384600" y="3414600"/>
                <a:ext cx="528120" cy="701640"/>
              </a:xfrm>
              <a:prstGeom prst="rect">
                <a:avLst/>
              </a:prstGeom>
              <a:solidFill>
                <a:srgbClr val="f5e9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12"/>
              <p:cNvSpPr/>
              <p:nvPr/>
            </p:nvSpPr>
            <p:spPr>
              <a:xfrm>
                <a:off x="7461000" y="3408480"/>
                <a:ext cx="0" cy="71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Rectangle 13"/>
            <p:cNvSpPr/>
            <p:nvPr/>
          </p:nvSpPr>
          <p:spPr>
            <a:xfrm>
              <a:off x="2712960" y="3547800"/>
              <a:ext cx="529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9   87   94   82   67   98   87   81   74   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4"/>
          <p:cNvSpPr/>
          <p:nvPr/>
        </p:nvSpPr>
        <p:spPr>
          <a:xfrm>
            <a:off x="1553040" y="4629240"/>
            <a:ext cx="58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An array of size N is indexed from zero to 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5"/>
          <p:cNvGrpSpPr/>
          <p:nvPr/>
        </p:nvGrpSpPr>
        <p:grpSpPr>
          <a:xfrm>
            <a:off x="816120" y="2114640"/>
            <a:ext cx="2463840" cy="1919880"/>
            <a:chOff x="816120" y="2114640"/>
            <a:chExt cx="2463840" cy="1919880"/>
          </a:xfrm>
        </p:grpSpPr>
        <p:sp>
          <p:nvSpPr>
            <p:cNvPr id="149" name="Rectangle 16"/>
            <p:cNvSpPr/>
            <p:nvPr/>
          </p:nvSpPr>
          <p:spPr>
            <a:xfrm>
              <a:off x="1468800" y="3637080"/>
              <a:ext cx="109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c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816120" y="2114640"/>
              <a:ext cx="246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The entire arr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has a single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8"/>
            <p:cNvSpPr/>
            <p:nvPr/>
          </p:nvSpPr>
          <p:spPr>
            <a:xfrm>
              <a:off x="1997280" y="28749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9"/>
          <p:cNvGrpSpPr/>
          <p:nvPr/>
        </p:nvGrpSpPr>
        <p:grpSpPr>
          <a:xfrm>
            <a:off x="3738240" y="2112840"/>
            <a:ext cx="4120200" cy="836640"/>
            <a:chOff x="3738240" y="2112840"/>
            <a:chExt cx="4120200" cy="836640"/>
          </a:xfrm>
        </p:grpSpPr>
        <p:sp>
          <p:nvSpPr>
            <p:cNvPr id="153" name="Text Box 20"/>
            <p:cNvSpPr/>
            <p:nvPr/>
          </p:nvSpPr>
          <p:spPr>
            <a:xfrm>
              <a:off x="3738240" y="2112840"/>
              <a:ext cx="412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Each value has a numeric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 Unicode MS"/>
                </a:rPr>
                <a:t>inde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1"/>
            <p:cNvSpPr/>
            <p:nvPr/>
          </p:nvSpPr>
          <p:spPr>
            <a:xfrm flipH="1">
              <a:off x="5742000" y="2492280"/>
              <a:ext cx="533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22"/>
          <p:cNvSpPr/>
          <p:nvPr/>
        </p:nvSpPr>
        <p:spPr>
          <a:xfrm>
            <a:off x="1097280" y="5238720"/>
            <a:ext cx="70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his array holds 10 values that are indexed from 0 to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2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609480" y="914400"/>
            <a:ext cx="807732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dds a DVD to the collection, increasing the siz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llection array if necess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DVD (String title, String director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st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oolea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lu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nt == collection.lengt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aseS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ection[count]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 (title, director, year, cost, bluRa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Cost += co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609480" y="433440"/>
            <a:ext cx="807732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a report describing the DVD coll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 = NumberFormat.getCurrency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report = "~~~~~~~~~~~~~~~~~~~~~~~~~~~~~~~~~~~~~~~~~~~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 += "My DVD Collection\n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 += "Number of DVDs: " + count + 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 += "Total cost: " + fmt.format(totalCost) + 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 += "Average cost: " + fmt.format(totalCost/cou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 += "\n\nDVD List:\n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 = 0; dvd &lt; count; dvd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 += collection[dvd].toString() + 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609480" y="1076400"/>
            <a:ext cx="807732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creases the capacity of the collection by creating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arger array and copying the existing collection into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aseSize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[] temp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[collection.length * 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 = 0; dvd &lt; collection.length; dvd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[dvd] = collection[dvd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ection = te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60948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VD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DVD video dis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Number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itle, dir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boolea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lu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 new DVD with the specified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 (String title, String director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s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oolea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lu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hi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title = tit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hi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director = dir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hi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year = yea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hi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cost = co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hi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bluRay = blu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609480" y="1076400"/>
            <a:ext cx="807732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a string description of this DV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 = NumberFormat.getCurrency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descri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 = fmt.format(cost) + "\t" + year + "\t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 += title + "\t" + dir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blu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 += "\t" + "Blu-Ray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7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ML diagram f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1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22"/>
          <p:cNvGrpSpPr/>
          <p:nvPr/>
        </p:nvGrpSpPr>
        <p:grpSpPr>
          <a:xfrm>
            <a:off x="1371600" y="1676520"/>
            <a:ext cx="6095880" cy="4638600"/>
            <a:chOff x="1371600" y="1676520"/>
            <a:chExt cx="6095880" cy="4638600"/>
          </a:xfrm>
        </p:grpSpPr>
        <p:sp>
          <p:nvSpPr>
            <p:cNvPr id="351" name="TextBox 5"/>
            <p:cNvSpPr/>
            <p:nvPr/>
          </p:nvSpPr>
          <p:spPr>
            <a:xfrm>
              <a:off x="1371600" y="1676520"/>
              <a:ext cx="6095880" cy="463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Picture 21" descr="fig08_03.tif"/>
            <p:cNvPicPr/>
            <p:nvPr/>
          </p:nvPicPr>
          <p:blipFill>
            <a:blip r:embed="rId1"/>
            <a:stretch/>
          </p:blipFill>
          <p:spPr>
            <a:xfrm>
              <a:off x="1752480" y="1819080"/>
              <a:ext cx="5264280" cy="429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-Line Arg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gnatur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ndicates that it takes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as a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values come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mand-line argu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provided when the interpreter is invo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following invocation of the interpreter passes thr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in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Ev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 StateEval pennsylvania texas ariz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ameTag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609480" y="96372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NameTag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command line argu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simple name tag using a greeting and a name tha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pecified by the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     " + args[0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y name is " + args[1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609480" y="96372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NameTag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command line argu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simple name tag using a greeting and a name tha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pecified by the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     " + args[0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y name is " + args[1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2312640" y="817560"/>
            <a:ext cx="4124520" cy="3226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Command-Lin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java NameTag Howdy Joh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ow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y name is Joh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java NameTag Hello B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y name is B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378520" y="1720800"/>
            <a:ext cx="483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1523880" y="290520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icular value in an array is referenced using the array name followed by the index in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ores[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the valu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9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e 3rd value in the ar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expression represents a place to store a single integer and can be used wherever an integer variable can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wanted to create a method that processed a different amount of data from one invocation to th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let's define a method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returns the average of a set of integer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17400" y="4046400"/>
            <a:ext cx="65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ne call to average thre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an1 = average (42, 69, 3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08040" y="4960800"/>
            <a:ext cx="841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nother call to average seven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an2 = average (35, 43, 93, 23, 40, 21, 7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ld define overloaded version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de: we'd need a separate version of the method for each additional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ld define the method to accept an array of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de: we'd have to create the array and store the integers prior to calling the method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, Java provides a convenient way to cre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pecial syntax in the formal parameter list, we can define a method to accept any number of parameters of the sam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call, the parameters are automatically put into an array for easy processing in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197720" y="4419720"/>
            <a:ext cx="566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average (int ...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what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"/>
          <p:cNvGrpSpPr/>
          <p:nvPr/>
        </p:nvGrpSpPr>
        <p:grpSpPr>
          <a:xfrm>
            <a:off x="4352400" y="4876920"/>
            <a:ext cx="1142280" cy="1145160"/>
            <a:chOff x="4352400" y="4876920"/>
            <a:chExt cx="1142280" cy="1145160"/>
          </a:xfrm>
        </p:grpSpPr>
        <p:sp>
          <p:nvSpPr>
            <p:cNvPr id="377" name="Text Box 6"/>
            <p:cNvSpPr/>
            <p:nvPr/>
          </p:nvSpPr>
          <p:spPr>
            <a:xfrm>
              <a:off x="4352400" y="531828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1"/>
            <p:cNvSpPr/>
            <p:nvPr/>
          </p:nvSpPr>
          <p:spPr>
            <a:xfrm flipV="1">
              <a:off x="4884480" y="4876920"/>
              <a:ext cx="75960" cy="457200"/>
            </a:xfrm>
            <a:prstGeom prst="line">
              <a:avLst/>
            </a:prstGeom>
            <a:ln w="38160">
              <a:solidFill>
                <a:srgbClr val="de2c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3"/>
          <p:cNvGrpSpPr/>
          <p:nvPr/>
        </p:nvGrpSpPr>
        <p:grpSpPr>
          <a:xfrm>
            <a:off x="6095520" y="4876920"/>
            <a:ext cx="845280" cy="1161000"/>
            <a:chOff x="6095520" y="4876920"/>
            <a:chExt cx="845280" cy="1161000"/>
          </a:xfrm>
        </p:grpSpPr>
        <p:sp>
          <p:nvSpPr>
            <p:cNvPr id="380" name="Text Box 7"/>
            <p:cNvSpPr/>
            <p:nvPr/>
          </p:nvSpPr>
          <p:spPr>
            <a:xfrm>
              <a:off x="6095520" y="5334120"/>
              <a:ext cx="84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r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 flipH="1" flipV="1">
              <a:off x="6399000" y="4876920"/>
              <a:ext cx="76320" cy="457200"/>
            </a:xfrm>
            <a:prstGeom prst="line">
              <a:avLst/>
            </a:prstGeom>
            <a:ln w="38160">
              <a:solidFill>
                <a:srgbClr val="de2c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7"/>
          <p:cNvGrpSpPr/>
          <p:nvPr/>
        </p:nvGrpSpPr>
        <p:grpSpPr>
          <a:xfrm>
            <a:off x="2978640" y="3809880"/>
            <a:ext cx="5100120" cy="761760"/>
            <a:chOff x="2978640" y="3809880"/>
            <a:chExt cx="5100120" cy="761760"/>
          </a:xfrm>
        </p:grpSpPr>
        <p:sp>
          <p:nvSpPr>
            <p:cNvPr id="383" name="Text Box 5"/>
            <p:cNvSpPr/>
            <p:nvPr/>
          </p:nvSpPr>
          <p:spPr>
            <a:xfrm>
              <a:off x="2978640" y="3809880"/>
              <a:ext cx="510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dicates a variable length parameter li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6"/>
            <p:cNvSpPr/>
            <p:nvPr/>
          </p:nvSpPr>
          <p:spPr>
            <a:xfrm>
              <a:off x="5646600" y="4190760"/>
              <a:ext cx="0" cy="380880"/>
            </a:xfrm>
            <a:prstGeom prst="line">
              <a:avLst/>
            </a:prstGeom>
            <a:ln w="38160">
              <a:solidFill>
                <a:srgbClr val="de2c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1295280" y="1295280"/>
            <a:ext cx="6705720" cy="454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verage 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 = 0.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list.length !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num :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+= nu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 = (double)num / list.lengt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e of the parameter can be any primitive or object 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6"/>
          <p:cNvSpPr/>
          <p:nvPr/>
        </p:nvSpPr>
        <p:spPr>
          <a:xfrm>
            <a:off x="1066680" y="2514600"/>
            <a:ext cx="7010640" cy="179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Grades (Grade ... gr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Grade letterGrade : gr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letterGrad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304920" y="106668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method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ist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accepts a variable number of integers (which each represent the distance of one leg of a trip) and returns the total distance of the 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304920" y="106668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method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ist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accepts a variable number of integers (which each represent the distance of one leg of a trip) and returns the total distance of the 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1600200" y="3127320"/>
            <a:ext cx="5791320" cy="28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tance 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: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sum + nu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that accepts a variable number of parameters can also accept other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method accept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, and a variable number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s into an array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724680" y="3886200"/>
            <a:ext cx="76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test (int count, String na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 ... nu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what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rying number of parameters must come last in the formal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cannot accept two sets of varying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s can also be set up to accept a variable number of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iableParameters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mily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5"/>
          <p:cNvSpPr/>
          <p:nvPr/>
        </p:nvSpPr>
        <p:spPr>
          <a:xfrm>
            <a:off x="609480" y="6094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VariableParameter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variable length parameter l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able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wo Family objects using a constructor that ac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 variable number of String objects as parame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lewis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("John", "Sharon", "Justin", "Kayla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Nathan", "Samantha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camde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("Stephen", "Annie", "Matt", "Mary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Simon", "Lucy", "Ruthie", "Sam", "David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lewi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amd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an array element can be assigned a value, printed, or used in a calculatio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ores[2] = 8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ores[first] = scores[first] +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an = (scores[0] + scores[1]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"Top = " + scores[5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k = scores[rand.nextInt(11)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5"/>
          <p:cNvSpPr/>
          <p:nvPr/>
        </p:nvSpPr>
        <p:spPr>
          <a:xfrm>
            <a:off x="609480" y="6094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VariableParameter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variable length parameter l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able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wo Family objects using a constructor that ac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 variable number of String objects as parame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lewis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("John", "Sharon", "Justin", "Kayla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Nathan", "Samantha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camde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("Stephen", "Annie", "Matt", "Mary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Simon", "Lucy", "Ruthie", "Sam", "David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lewi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amd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3655440" y="512640"/>
            <a:ext cx="1366200" cy="468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ha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us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ay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t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ant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ep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u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uth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v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609480" y="90000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amil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variable length parameter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[] member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is family by storing the (possib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ultiple) names that are passed in as parame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(String ... n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mbers = na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"/>
          <p:cNvSpPr/>
          <p:nvPr/>
        </p:nvSpPr>
        <p:spPr>
          <a:xfrm>
            <a:off x="609480" y="1292400"/>
            <a:ext cx="807732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a string representation of this fami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result = 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ring name : memb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+= name + 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2378520" y="1720800"/>
            <a:ext cx="483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4"/>
          <p:cNvSpPr/>
          <p:nvPr/>
        </p:nvSpPr>
        <p:spPr>
          <a:xfrm>
            <a:off x="1523880" y="3456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6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e-dimensional arr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ores a list of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wo-dimensional arr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thought of as a table of elements, with rows and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903240" y="3032280"/>
            <a:ext cx="1991880" cy="2377440"/>
            <a:chOff x="903240" y="3032280"/>
            <a:chExt cx="1991880" cy="2377440"/>
          </a:xfrm>
        </p:grpSpPr>
        <p:sp>
          <p:nvSpPr>
            <p:cNvPr id="423" name="Rectangle 5"/>
            <p:cNvSpPr/>
            <p:nvPr/>
          </p:nvSpPr>
          <p:spPr>
            <a:xfrm>
              <a:off x="2361960" y="3352680"/>
              <a:ext cx="53316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6"/>
            <p:cNvSpPr/>
            <p:nvPr/>
          </p:nvSpPr>
          <p:spPr>
            <a:xfrm>
              <a:off x="2361960" y="35812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7"/>
            <p:cNvSpPr/>
            <p:nvPr/>
          </p:nvSpPr>
          <p:spPr>
            <a:xfrm>
              <a:off x="2361960" y="40384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8"/>
            <p:cNvSpPr/>
            <p:nvPr/>
          </p:nvSpPr>
          <p:spPr>
            <a:xfrm>
              <a:off x="2361960" y="44956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"/>
            <p:cNvSpPr/>
            <p:nvPr/>
          </p:nvSpPr>
          <p:spPr>
            <a:xfrm>
              <a:off x="2361960" y="49528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0"/>
            <p:cNvSpPr/>
            <p:nvPr/>
          </p:nvSpPr>
          <p:spPr>
            <a:xfrm>
              <a:off x="903240" y="3032280"/>
              <a:ext cx="151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dimen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1"/>
            <p:cNvSpPr/>
            <p:nvPr/>
          </p:nvSpPr>
          <p:spPr>
            <a:xfrm>
              <a:off x="1676160" y="3733560"/>
              <a:ext cx="0" cy="6094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12"/>
          <p:cNvGrpSpPr/>
          <p:nvPr/>
        </p:nvGrpSpPr>
        <p:grpSpPr>
          <a:xfrm>
            <a:off x="3321000" y="3048120"/>
            <a:ext cx="4756320" cy="2361600"/>
            <a:chOff x="3321000" y="3048120"/>
            <a:chExt cx="4756320" cy="2361600"/>
          </a:xfrm>
        </p:grpSpPr>
        <p:sp>
          <p:nvSpPr>
            <p:cNvPr id="431" name="Rectangle 13"/>
            <p:cNvSpPr/>
            <p:nvPr/>
          </p:nvSpPr>
          <p:spPr>
            <a:xfrm>
              <a:off x="4876920" y="3352680"/>
              <a:ext cx="53316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4"/>
            <p:cNvSpPr/>
            <p:nvPr/>
          </p:nvSpPr>
          <p:spPr>
            <a:xfrm>
              <a:off x="4876920" y="35812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5"/>
            <p:cNvSpPr/>
            <p:nvPr/>
          </p:nvSpPr>
          <p:spPr>
            <a:xfrm>
              <a:off x="4876920" y="40384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6"/>
            <p:cNvSpPr/>
            <p:nvPr/>
          </p:nvSpPr>
          <p:spPr>
            <a:xfrm>
              <a:off x="4876920" y="44956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7"/>
            <p:cNvSpPr/>
            <p:nvPr/>
          </p:nvSpPr>
          <p:spPr>
            <a:xfrm>
              <a:off x="4876920" y="49528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18"/>
            <p:cNvSpPr/>
            <p:nvPr/>
          </p:nvSpPr>
          <p:spPr>
            <a:xfrm>
              <a:off x="3321000" y="3048120"/>
              <a:ext cx="1643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tw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9"/>
            <p:cNvSpPr/>
            <p:nvPr/>
          </p:nvSpPr>
          <p:spPr>
            <a:xfrm>
              <a:off x="4191120" y="3749400"/>
              <a:ext cx="0" cy="6094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0"/>
            <p:cNvSpPr/>
            <p:nvPr/>
          </p:nvSpPr>
          <p:spPr>
            <a:xfrm>
              <a:off x="5410080" y="3352680"/>
              <a:ext cx="53352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1"/>
            <p:cNvSpPr/>
            <p:nvPr/>
          </p:nvSpPr>
          <p:spPr>
            <a:xfrm>
              <a:off x="5410080" y="35812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2"/>
            <p:cNvSpPr/>
            <p:nvPr/>
          </p:nvSpPr>
          <p:spPr>
            <a:xfrm>
              <a:off x="5410080" y="40384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3"/>
            <p:cNvSpPr/>
            <p:nvPr/>
          </p:nvSpPr>
          <p:spPr>
            <a:xfrm>
              <a:off x="5410080" y="44956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4"/>
            <p:cNvSpPr/>
            <p:nvPr/>
          </p:nvSpPr>
          <p:spPr>
            <a:xfrm>
              <a:off x="5410080" y="49528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5"/>
            <p:cNvSpPr/>
            <p:nvPr/>
          </p:nvSpPr>
          <p:spPr>
            <a:xfrm>
              <a:off x="5943600" y="3352680"/>
              <a:ext cx="53352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6"/>
            <p:cNvSpPr/>
            <p:nvPr/>
          </p:nvSpPr>
          <p:spPr>
            <a:xfrm>
              <a:off x="5943600" y="35812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7"/>
            <p:cNvSpPr/>
            <p:nvPr/>
          </p:nvSpPr>
          <p:spPr>
            <a:xfrm>
              <a:off x="5943600" y="40384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8"/>
            <p:cNvSpPr/>
            <p:nvPr/>
          </p:nvSpPr>
          <p:spPr>
            <a:xfrm>
              <a:off x="5943600" y="44956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9"/>
            <p:cNvSpPr/>
            <p:nvPr/>
          </p:nvSpPr>
          <p:spPr>
            <a:xfrm>
              <a:off x="5943600" y="49528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30"/>
            <p:cNvSpPr/>
            <p:nvPr/>
          </p:nvSpPr>
          <p:spPr>
            <a:xfrm>
              <a:off x="6477120" y="3352680"/>
              <a:ext cx="53316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31"/>
            <p:cNvSpPr/>
            <p:nvPr/>
          </p:nvSpPr>
          <p:spPr>
            <a:xfrm>
              <a:off x="6477120" y="35812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32"/>
            <p:cNvSpPr/>
            <p:nvPr/>
          </p:nvSpPr>
          <p:spPr>
            <a:xfrm>
              <a:off x="6477120" y="40384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33"/>
            <p:cNvSpPr/>
            <p:nvPr/>
          </p:nvSpPr>
          <p:spPr>
            <a:xfrm>
              <a:off x="6477120" y="44956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34"/>
            <p:cNvSpPr/>
            <p:nvPr/>
          </p:nvSpPr>
          <p:spPr>
            <a:xfrm>
              <a:off x="6477120" y="49528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35"/>
            <p:cNvSpPr/>
            <p:nvPr/>
          </p:nvSpPr>
          <p:spPr>
            <a:xfrm>
              <a:off x="7010280" y="3352680"/>
              <a:ext cx="53352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6"/>
            <p:cNvSpPr/>
            <p:nvPr/>
          </p:nvSpPr>
          <p:spPr>
            <a:xfrm>
              <a:off x="7010280" y="35812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7"/>
            <p:cNvSpPr/>
            <p:nvPr/>
          </p:nvSpPr>
          <p:spPr>
            <a:xfrm>
              <a:off x="7010280" y="40384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8"/>
            <p:cNvSpPr/>
            <p:nvPr/>
          </p:nvSpPr>
          <p:spPr>
            <a:xfrm>
              <a:off x="7010280" y="44956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9"/>
            <p:cNvSpPr/>
            <p:nvPr/>
          </p:nvSpPr>
          <p:spPr>
            <a:xfrm>
              <a:off x="7010280" y="49528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40"/>
            <p:cNvSpPr/>
            <p:nvPr/>
          </p:nvSpPr>
          <p:spPr>
            <a:xfrm>
              <a:off x="7543800" y="3352680"/>
              <a:ext cx="53352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1"/>
            <p:cNvSpPr/>
            <p:nvPr/>
          </p:nvSpPr>
          <p:spPr>
            <a:xfrm>
              <a:off x="7543800" y="35812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2"/>
            <p:cNvSpPr/>
            <p:nvPr/>
          </p:nvSpPr>
          <p:spPr>
            <a:xfrm>
              <a:off x="7543800" y="40384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3"/>
            <p:cNvSpPr/>
            <p:nvPr/>
          </p:nvSpPr>
          <p:spPr>
            <a:xfrm>
              <a:off x="7543800" y="44956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44"/>
            <p:cNvSpPr/>
            <p:nvPr/>
          </p:nvSpPr>
          <p:spPr>
            <a:xfrm>
              <a:off x="7543800" y="49528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5"/>
            <p:cNvSpPr/>
            <p:nvPr/>
          </p:nvSpPr>
          <p:spPr>
            <a:xfrm>
              <a:off x="4876920" y="3200400"/>
              <a:ext cx="990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Footer Placeholder 4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precise, in Java a two-dimensional array is an array of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wo-dimensional array is declared by specifying the size of each dimension separat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[] table = new int[12][5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rray element is referenced using two index val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 = table[3][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ray stored in one row can be specified using one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40384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TwoDArray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odaSurvey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762120" y="1371600"/>
          <a:ext cx="7619760" cy="2193840"/>
        </p:xfrm>
        <a:graphic>
          <a:graphicData uri="http://schemas.openxmlformats.org/drawingml/2006/table">
            <a:tbl>
              <a:tblPr/>
              <a:tblGrid>
                <a:gridCol w="2539800"/>
                <a:gridCol w="1666800"/>
                <a:gridCol w="34131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[][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 array of integers, 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 of integer arr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ble[5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[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 of integ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ble[5][12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609480" y="76320"/>
            <a:ext cx="791064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woDArra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two-dimensional arr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woD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 2D array of integers, fills it with incre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teger values, then prints them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tabl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5][1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ad the table with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w=0; row &lt; table.length; row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=0; col &lt; table[row].length; col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[row][col] = row * 10 + co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h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w=0; row &lt; table.length; row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col=0; col &lt; table[row].length; col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table[row][col] + "\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"/>
          <p:cNvSpPr/>
          <p:nvPr/>
        </p:nvSpPr>
        <p:spPr>
          <a:xfrm>
            <a:off x="609480" y="76320"/>
            <a:ext cx="791064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woDArra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two-dimensional arr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woD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 2D array of integers, fills it with incre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teger values, then prints them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tabl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5][1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ad the table with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w=0; row &lt; table.length; row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=0; col &lt; table[row].length; col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[row][col] = row * 10 + co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h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w=0; row &lt; table.length; row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col=0; col &lt; table[row].length; col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table[row][col] + "\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5"/>
          <p:cNvSpPr/>
          <p:nvPr/>
        </p:nvSpPr>
        <p:spPr>
          <a:xfrm>
            <a:off x="152280" y="711360"/>
            <a:ext cx="8839440" cy="2009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609480" y="15228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odaSurve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two-dimensional arr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Decimal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termines and prints the average of each row (soda) and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lumn (respondent) of the survey sc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scores = { {3, 4, 5, 2, 1, 4, 3, 2, 4, 4}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2, 4, 3, 4, 3, 3, 2, 1, 2, 2}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3, 5, 4, 5, 5, 3, 2, 5, 5, 5}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1, 1, 1, 3, 1, 2, 1, 3, 2, 4} 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S = scores.leng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OPLE = scores[0].leng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sodaSum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SODAS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personSum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PEOPLE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956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s held in an array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ra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ray stores multiple values of the same type –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emen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ment type can be a primitive type or an object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we can create an array of integers, an array of characters,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,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5"/>
          <p:cNvSpPr/>
          <p:nvPr/>
        </p:nvSpPr>
        <p:spPr>
          <a:xfrm>
            <a:off x="609480" y="77472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=0; soda &lt; SODAS; soda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=0; person &lt; PEOPLE; person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Sum[soda] += scores[soda][person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Sum[person] += scores[soda][person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fm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("0.#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verages: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=0; soda &lt; SODAS; soda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oda #" + (soda+1) + ": "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mt.format (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lo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sodaSum[soda]/PEOPL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=0; person &lt; PEOPLE; person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Person #" + (person+1) + ": "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mt.format (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lo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personSum[person]/SODA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609480" y="77472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=0; soda &lt; SODAS; soda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=0; person &lt; PEOPLE; person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Sum[soda] += scores[soda][person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Sum[person] += scores[soda][person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fm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("0.#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verages: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=0; soda &lt; SODAS; soda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oda #" + (soda+1) + ": "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mt.format (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lo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sodaSum[soda]/PEOPL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=0; person &lt; PEOPLE; person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Person #" + (person+1) + ": "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mt.format (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lo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personSum[person]/SODA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3200400" y="609480"/>
            <a:ext cx="2362320" cy="492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 #1: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 #2: 2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 #3: 4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 #4: 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1: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2: 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3: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4: 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5: 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6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7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8: 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9: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10: 3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dimensional 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ray can have many dimensions – if it has more than one dimension, it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ltidimensional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mension subdivides the previous one into the specified number of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mension has its ow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each dimension is an array of array references, the arrays within one dimension can be of different l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gged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2378520" y="1720800"/>
            <a:ext cx="483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1523880" y="400860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 can be helpful in graphics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y can be used to store a list of coord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lyg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ultisided, closed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ly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imilar to a polygon except that its endpoints do not meet, and it cannot be f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ocket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ocketPanel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5"/>
          <p:cNvSpPr/>
          <p:nvPr/>
        </p:nvSpPr>
        <p:spPr>
          <a:xfrm>
            <a:off x="609480" y="3571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ocke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polygons and poly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frame of the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Rocke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et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et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609480" y="3571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ocke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polygons and poly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frame of the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Rocke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et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et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5"/>
          <p:cNvGrpSpPr/>
          <p:nvPr/>
        </p:nvGrpSpPr>
        <p:grpSpPr>
          <a:xfrm>
            <a:off x="3124080" y="304920"/>
            <a:ext cx="2971800" cy="3276360"/>
            <a:chOff x="3124080" y="304920"/>
            <a:chExt cx="2971800" cy="3276360"/>
          </a:xfrm>
        </p:grpSpPr>
        <p:sp>
          <p:nvSpPr>
            <p:cNvPr id="499" name="TextBox 5"/>
            <p:cNvSpPr/>
            <p:nvPr/>
          </p:nvSpPr>
          <p:spPr>
            <a:xfrm>
              <a:off x="3124080" y="304920"/>
              <a:ext cx="2971800" cy="3276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0" name="Picture 4" descr="Rocket.png"/>
            <p:cNvPicPr/>
            <p:nvPr/>
          </p:nvPicPr>
          <p:blipFill>
            <a:blip r:embed="rId1"/>
            <a:stretch/>
          </p:blipFill>
          <p:spPr>
            <a:xfrm>
              <a:off x="3352680" y="533520"/>
              <a:ext cx="2514600" cy="2793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5"/>
          <p:cNvSpPr/>
          <p:nvPr/>
        </p:nvSpPr>
        <p:spPr>
          <a:xfrm>
            <a:off x="609480" y="55872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ocket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polygons and poly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et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xRocket = {100, 120, 120, 130, 130, 70, 70, 80, 80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yRocket = {15, 40, 115, 125, 150, 150, 125, 115, 40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xWindow = {95, 105, 110, 90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yWindow = {45, 45, 70, 70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xFlame = {70, 70, 75, 80, 90, 100, 110, 115, 12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0, 130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yFlame = {155, 170, 165, 190, 170, 175, 160, 185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60, 175, 155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609480" y="15228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e basic characteristics of this pan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et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200, 2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a rocket using polygons and poly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Compone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 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Polygon (xRocket, yRocket, xRocket.leng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gra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Polygon (xWindow, yWindow, xWindow.leng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r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Polyline (xFlame, yFlame, xFlame.leng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lygon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an also be used to define and draw a 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of the overload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Polyg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lPolyg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take a sing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as a parameter instead of arrays of coord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ava, the array itself is an object that must be instant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way to depic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9"/>
          <p:cNvGrpSpPr/>
          <p:nvPr/>
        </p:nvGrpSpPr>
        <p:grpSpPr>
          <a:xfrm>
            <a:off x="2592360" y="2743200"/>
            <a:ext cx="2741760" cy="3809880"/>
            <a:chOff x="2592360" y="2743200"/>
            <a:chExt cx="2741760" cy="3809880"/>
          </a:xfrm>
        </p:grpSpPr>
        <p:sp>
          <p:nvSpPr>
            <p:cNvPr id="169" name="Rectangle 5"/>
            <p:cNvSpPr/>
            <p:nvPr/>
          </p:nvSpPr>
          <p:spPr>
            <a:xfrm>
              <a:off x="3610080" y="2743200"/>
              <a:ext cx="57816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"/>
            <p:cNvSpPr/>
            <p:nvPr/>
          </p:nvSpPr>
          <p:spPr>
            <a:xfrm>
              <a:off x="2592360" y="27576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3883320" y="2933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8"/>
            <p:cNvSpPr/>
            <p:nvPr/>
          </p:nvSpPr>
          <p:spPr>
            <a:xfrm>
              <a:off x="4648320" y="27432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7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0"/>
            <p:cNvSpPr/>
            <p:nvPr/>
          </p:nvSpPr>
          <p:spPr>
            <a:xfrm>
              <a:off x="4648320" y="31240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1"/>
            <p:cNvSpPr/>
            <p:nvPr/>
          </p:nvSpPr>
          <p:spPr>
            <a:xfrm>
              <a:off x="4648320" y="35053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2"/>
            <p:cNvSpPr/>
            <p:nvPr/>
          </p:nvSpPr>
          <p:spPr>
            <a:xfrm>
              <a:off x="4648320" y="38862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8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3"/>
            <p:cNvSpPr/>
            <p:nvPr/>
          </p:nvSpPr>
          <p:spPr>
            <a:xfrm>
              <a:off x="4648320" y="42670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6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4"/>
            <p:cNvSpPr/>
            <p:nvPr/>
          </p:nvSpPr>
          <p:spPr>
            <a:xfrm>
              <a:off x="4648320" y="46483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5"/>
            <p:cNvSpPr/>
            <p:nvPr/>
          </p:nvSpPr>
          <p:spPr>
            <a:xfrm>
              <a:off x="4648320" y="50292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6"/>
            <p:cNvSpPr/>
            <p:nvPr/>
          </p:nvSpPr>
          <p:spPr>
            <a:xfrm>
              <a:off x="4648320" y="54100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8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7"/>
            <p:cNvSpPr/>
            <p:nvPr/>
          </p:nvSpPr>
          <p:spPr>
            <a:xfrm>
              <a:off x="4648320" y="57913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7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8"/>
            <p:cNvSpPr/>
            <p:nvPr/>
          </p:nvSpPr>
          <p:spPr>
            <a:xfrm>
              <a:off x="4648320" y="61722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Footer Placeholder 1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3"/>
          <p:cNvGrpSpPr/>
          <p:nvPr/>
        </p:nvGrpSpPr>
        <p:grpSpPr>
          <a:xfrm>
            <a:off x="471600" y="3428640"/>
            <a:ext cx="3000240" cy="1847520"/>
            <a:chOff x="471600" y="3428640"/>
            <a:chExt cx="3000240" cy="1847520"/>
          </a:xfrm>
        </p:grpSpPr>
        <p:sp>
          <p:nvSpPr>
            <p:cNvPr id="184" name="Text Box 17"/>
            <p:cNvSpPr/>
            <p:nvPr/>
          </p:nvSpPr>
          <p:spPr>
            <a:xfrm>
              <a:off x="471600" y="4267440"/>
              <a:ext cx="3000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The name of the arr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is an object refer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vari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8"/>
            <p:cNvSpPr/>
            <p:nvPr/>
          </p:nvSpPr>
          <p:spPr>
            <a:xfrm flipV="1">
              <a:off x="1904760" y="3428640"/>
              <a:ext cx="68580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2378520" y="1720800"/>
            <a:ext cx="483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1523880" y="456264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 related to the mouse are separated in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use ev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use motion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 Ev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609480" y="2971800"/>
          <a:ext cx="8001000" cy="2616120"/>
        </p:xfrm>
        <a:graphic>
          <a:graphicData uri="http://schemas.openxmlformats.org/drawingml/2006/table">
            <a:tbl>
              <a:tblPr/>
              <a:tblGrid>
                <a:gridCol w="2316240"/>
                <a:gridCol w="56847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pres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button is pressed 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rele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button is rele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click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button is pressed down and released without moving the mouse in betw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ente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pointer is moved onto (over) a compon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3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exi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pointer is moved off of a compon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 motion ev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ers for mouse events are created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is passed to the appropriate method when a mouse event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914400" y="1905120"/>
          <a:ext cx="6948360" cy="1096920"/>
        </p:xfrm>
        <a:graphic>
          <a:graphicData uri="http://schemas.openxmlformats.org/drawingml/2006/table">
            <a:tbl>
              <a:tblPr/>
              <a:tblGrid>
                <a:gridCol w="2316240"/>
                <a:gridCol w="46321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mo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is mo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drag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is moved while the mouse button is pressed 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given program, we may only care about one or two mou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atisfy the implementation of a listener interface, empty methods must be provided for unuse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ts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ts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5"/>
          <p:cNvSpPr/>
          <p:nvPr/>
        </p:nvSpPr>
        <p:spPr>
          <a:xfrm>
            <a:off x="609480" y="5716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ot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mouse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application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Dot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ts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5"/>
          <p:cNvSpPr/>
          <p:nvPr/>
        </p:nvSpPr>
        <p:spPr>
          <a:xfrm>
            <a:off x="609480" y="5716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ot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mouse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application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Dot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ts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7"/>
          <p:cNvGrpSpPr/>
          <p:nvPr/>
        </p:nvGrpSpPr>
        <p:grpSpPr>
          <a:xfrm>
            <a:off x="2514600" y="457200"/>
            <a:ext cx="4267080" cy="3352680"/>
            <a:chOff x="2514600" y="457200"/>
            <a:chExt cx="4267080" cy="3352680"/>
          </a:xfrm>
        </p:grpSpPr>
        <p:sp>
          <p:nvSpPr>
            <p:cNvPr id="527" name="TextBox 5"/>
            <p:cNvSpPr/>
            <p:nvPr/>
          </p:nvSpPr>
          <p:spPr>
            <a:xfrm>
              <a:off x="2514600" y="457200"/>
              <a:ext cx="4267080" cy="3352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8" name="Picture 6" descr="Dots.png"/>
            <p:cNvPicPr/>
            <p:nvPr/>
          </p:nvPicPr>
          <p:blipFill>
            <a:blip r:embed="rId1"/>
            <a:stretch/>
          </p:blipFill>
          <p:spPr>
            <a:xfrm>
              <a:off x="2752560" y="725400"/>
              <a:ext cx="3784680" cy="2806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5"/>
          <p:cNvSpPr/>
          <p:nvPr/>
        </p:nvSpPr>
        <p:spPr>
          <a:xfrm>
            <a:off x="609480" y="95076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ots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primary panel for the Dots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ArrayLi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ts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= 6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dius of each 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Point&gt; pointLi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5"/>
          <p:cNvSpPr/>
          <p:nvPr/>
        </p:nvSpPr>
        <p:spPr>
          <a:xfrm>
            <a:off x="60948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is panel to listen for mouse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ts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Lis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Point&gt;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MouseListener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tsListen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300, 2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all of the dots stored in the l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Compone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oint spot : point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spot.x-SIZE, spot.y-SIZE, SIZE*2, SIZE*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String ("Count: " + pointList.size(), 5, 1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609480" y="44604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listener for mouse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tsListener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dds the current point to the list of points and redra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panel whenever the mouse button is pres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Pressed (Mouse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List.add(event.getPoin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a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ovide empty definitions for unused event metho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Click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Releas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Enter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Exit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ubberba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visual effect in which a shape is "stretched" as it is drawn using the 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example continually redraws a line as the mouse is drag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ubberLines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ubberLinesPanel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8:41:20Z</dcterms:created>
  <dc:creator>usnidem</dc:creator>
  <dc:description/>
  <dc:language>en-US</dc:language>
  <cp:lastModifiedBy>Noreen Elliott</cp:lastModifiedBy>
  <dcterms:modified xsi:type="dcterms:W3CDTF">2013-08-12T20:19:03Z</dcterms:modified>
  <cp:revision>22</cp:revision>
  <dc:subject/>
  <dc:title>Chapter #, Title</dc:title>
</cp:coreProperties>
</file>